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153-A262-48B8-AB40-EF4E45E9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842-6EDE-4D64-BDCA-41114A98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532-8200-40B1-929A-7D159063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83B-CE80-41F9-A1C3-F10B7BA1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D11D-04C8-474E-9F46-F9BE4744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AC16-0234-4092-AD70-C80CC308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3FD4-0283-4BA7-AA97-7CFAFFF6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DA8B-9ED9-4DF0-AE9D-AB4B2A15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6889-09EE-4544-91EE-DB5E6187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4A91-01C7-44E8-B6B0-2F9400EB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9946-0C25-42DC-872A-2667D0DE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E65-1B6E-4BBB-95D5-47BA090B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A251-539A-480B-ABC1-34E29460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5613-BD34-4E05-A811-B04D3A7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F2C5-5C18-49EF-B83B-29FAC10D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20B0-C1C8-4625-86AA-CD8AF9E3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F151-6A8C-4AF0-B7F4-55767CEC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4E5-2AA1-41D7-9B3A-D70F937C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4E5-572A-43FA-AB89-AACAB1E9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C30-C33E-4616-AD8E-56513428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718-0394-4B30-B1D2-3CCFD38F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AB6-7C06-465E-81BF-2C31E909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A6D-7A19-4596-820B-F080CE94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1BA-141E-48DA-B9BD-A3BD6D55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B564-B114-4CBB-B507-DEE03B3F46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3F84-A100-4D1D-A802-81A0482E39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066680" y="1752480"/>
            <a:ext cx="746784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Unicode MS"/>
              </a:rPr>
              <a:t>Подвижные игры</a:t>
            </a:r>
            <a:endParaRPr b="1" lang="en-US" sz="150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Unicode MS"/>
              </a:rPr>
              <a:t>с элементами</a:t>
            </a:r>
            <a:endParaRPr b="1" lang="en-US" sz="150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Unicode MS"/>
              </a:rPr>
              <a:t>баскетбола</a:t>
            </a:r>
            <a:endParaRPr b="1" lang="en-US" sz="150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Arial Unicode MS"/>
              </a:rPr>
              <a:t>и гандбола</a:t>
            </a:r>
            <a:endParaRPr b="1" lang="en-US" sz="15000" spc="1" strike="noStrike">
              <a:ln w="1764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0" dir="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ФИЗИЧЕСКОЙ КУЛЬТУРЫ 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http://www.offsport.ru/handball/img/27.jpg"/>
          <p:cNvPicPr/>
          <p:nvPr/>
        </p:nvPicPr>
        <p:blipFill>
          <a:blip r:embed="rId1"/>
          <a:stretch/>
        </p:blipFill>
        <p:spPr>
          <a:xfrm>
            <a:off x="2590920" y="1676520"/>
            <a:ext cx="6324480" cy="46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Прямоугольник 11" descr=""/>
          <p:cNvPicPr/>
          <p:nvPr/>
        </p:nvPicPr>
        <p:blipFill>
          <a:blip r:embed="rId2"/>
          <a:stretch/>
        </p:blipFill>
        <p:spPr>
          <a:xfrm>
            <a:off x="2382840" y="6480"/>
            <a:ext cx="676764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6248160" cy="43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Прямоугольник 10" descr=""/>
          <p:cNvPicPr/>
          <p:nvPr/>
        </p:nvPicPr>
        <p:blipFill>
          <a:blip r:embed="rId2"/>
          <a:stretch/>
        </p:blipFill>
        <p:spPr>
          <a:xfrm>
            <a:off x="1847880" y="158760"/>
            <a:ext cx="730260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5851800" cy="481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8" name="Прямоугольник 4" descr=""/>
          <p:cNvPicPr/>
          <p:nvPr/>
        </p:nvPicPr>
        <p:blipFill>
          <a:blip r:embed="rId2"/>
          <a:stretch/>
        </p:blipFill>
        <p:spPr>
          <a:xfrm>
            <a:off x="2359080" y="85680"/>
            <a:ext cx="6419880" cy="23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Группа 20"/>
          <p:cNvGrpSpPr/>
          <p:nvPr/>
        </p:nvGrpSpPr>
        <p:grpSpPr>
          <a:xfrm>
            <a:off x="2438280" y="1600200"/>
            <a:ext cx="6477120" cy="4038480"/>
            <a:chOff x="2438280" y="1600200"/>
            <a:chExt cx="6477120" cy="4038480"/>
          </a:xfrm>
        </p:grpSpPr>
        <p:pic>
          <p:nvPicPr>
            <p:cNvPr id="110" name="Picture 14" descr=""/>
            <p:cNvPicPr/>
            <p:nvPr/>
          </p:nvPicPr>
          <p:blipFill>
            <a:blip r:embed="rId1"/>
            <a:stretch/>
          </p:blipFill>
          <p:spPr>
            <a:xfrm>
              <a:off x="2438280" y="1600200"/>
              <a:ext cx="6477120" cy="4038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cxnSp>
          <p:nvCxnSpPr>
            <p:cNvPr id="111" name="Прямая со стрелкой 19"/>
            <p:cNvCxnSpPr/>
            <p:nvPr/>
          </p:nvCxnSpPr>
          <p:spPr>
            <a:xfrm flipH="1">
              <a:off x="4001760" y="5121000"/>
              <a:ext cx="3911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112" name="Прямоугольник 17" descr=""/>
          <p:cNvPicPr/>
          <p:nvPr/>
        </p:nvPicPr>
        <p:blipFill>
          <a:blip r:embed="rId2"/>
          <a:stretch/>
        </p:blipFill>
        <p:spPr>
          <a:xfrm>
            <a:off x="1835280" y="-139680"/>
            <a:ext cx="760716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6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6248520" cy="433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4" name="Прямоугольник 9" descr=""/>
          <p:cNvPicPr/>
          <p:nvPr/>
        </p:nvPicPr>
        <p:blipFill>
          <a:blip r:embed="rId2"/>
          <a:stretch/>
        </p:blipFill>
        <p:spPr>
          <a:xfrm>
            <a:off x="2030400" y="6480"/>
            <a:ext cx="712008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WordArt 4" descr=""/>
          <p:cNvPicPr/>
          <p:nvPr/>
        </p:nvPicPr>
        <p:blipFill>
          <a:blip r:embed="rId1"/>
          <a:stretch/>
        </p:blipFill>
        <p:spPr>
          <a:xfrm>
            <a:off x="2341440" y="1292400"/>
            <a:ext cx="6278760" cy="18414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7"/>
          <p:cNvSpPr txBox="1"/>
          <p:nvPr/>
        </p:nvSpPr>
        <p:spPr>
          <a:xfrm>
            <a:off x="1905120" y="4267080"/>
            <a:ext cx="8001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Unicode MS"/>
              </a:rPr>
              <a:t> </a:t>
            </a:r>
            <a:r>
              <a:rPr b="0" lang="en-US" sz="15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Unicode MS"/>
              </a:rPr>
              <a:t>2. Ящерица</a:t>
            </a:r>
            <a:endParaRPr b="0" lang="en-US" sz="15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Unicode MS"/>
              <a:ea typeface="Arial Unicode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c0039"/>
                </a:solidFill>
                <a:latin typeface="Arial Unicode MS"/>
                <a:ea typeface="Arial Unicode MS"/>
              </a:rPr>
              <a:t>Итог урок</a:t>
            </a:r>
            <a:endParaRPr b="0" lang="en-US" sz="8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годня я узнал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перь я мог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 научил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b1fd3"/>
                </a:solidFill>
                <a:latin typeface="Arial Unicode MS"/>
                <a:ea typeface="Arial Unicode MS"/>
              </a:rPr>
              <a:t>Цели</a:t>
            </a:r>
            <a:r>
              <a:rPr b="1" lang="ru-RU" sz="3600" spc="-1" strike="noStrike">
                <a:solidFill>
                  <a:srgbClr val="5b1fd3"/>
                </a:solidFill>
                <a:latin typeface="Arial"/>
              </a:rPr>
              <a:t> уро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должить знакомство с элементами баскетбола и гандб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учивание новых игр с элементами баскетбола и гандб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1295280" y="-304920"/>
            <a:ext cx="861084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Изображение 114"/>
          <p:cNvPicPr/>
          <p:nvPr/>
        </p:nvPicPr>
        <p:blipFill>
          <a:blip r:embed="rId1"/>
          <a:stretch/>
        </p:blipFill>
        <p:spPr>
          <a:xfrm>
            <a:off x="3657600" y="1447920"/>
            <a:ext cx="4114800" cy="464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Прямоугольник 14" descr=""/>
          <p:cNvPicPr/>
          <p:nvPr/>
        </p:nvPicPr>
        <p:blipFill>
          <a:blip r:embed="rId2"/>
          <a:stretch/>
        </p:blipFill>
        <p:spPr>
          <a:xfrm>
            <a:off x="1822320" y="237960"/>
            <a:ext cx="7759800" cy="26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www.offsport.ru/basketball/dlya-detey/img/43.jpg"/>
          <p:cNvPicPr/>
          <p:nvPr/>
        </p:nvPicPr>
        <p:blipFill>
          <a:blip r:embed="rId1"/>
          <a:stretch/>
        </p:blipFill>
        <p:spPr>
          <a:xfrm>
            <a:off x="4114800" y="1752480"/>
            <a:ext cx="3429000" cy="462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Прямоугольник 16" descr=""/>
          <p:cNvPicPr/>
          <p:nvPr/>
        </p:nvPicPr>
        <p:blipFill>
          <a:blip r:embed="rId2"/>
          <a:stretch/>
        </p:blipFill>
        <p:spPr>
          <a:xfrm>
            <a:off x="2359080" y="542880"/>
            <a:ext cx="7149960" cy="21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http://kak.znate.ru/pars_docs/refs/84/83352/83352_html_138e5e63.jpg"/>
          <p:cNvPicPr/>
          <p:nvPr/>
        </p:nvPicPr>
        <p:blipFill>
          <a:blip r:embed="rId1"/>
          <a:stretch/>
        </p:blipFill>
        <p:spPr>
          <a:xfrm>
            <a:off x="3657600" y="1371600"/>
            <a:ext cx="4343400" cy="519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Прямоугольник 10" descr=""/>
          <p:cNvPicPr/>
          <p:nvPr/>
        </p:nvPicPr>
        <p:blipFill>
          <a:blip r:embed="rId2"/>
          <a:stretch/>
        </p:blipFill>
        <p:spPr>
          <a:xfrm>
            <a:off x="1670040" y="237960"/>
            <a:ext cx="852156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3533760" cy="487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Прямоугольник 11" descr=""/>
          <p:cNvPicPr/>
          <p:nvPr/>
        </p:nvPicPr>
        <p:blipFill>
          <a:blip r:embed="rId2"/>
          <a:stretch/>
        </p:blipFill>
        <p:spPr>
          <a:xfrm>
            <a:off x="1822320" y="158760"/>
            <a:ext cx="928368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http://www.offsport.ru/basketball/dlya-detey/img/39.jpg"/>
          <p:cNvPicPr/>
          <p:nvPr/>
        </p:nvPicPr>
        <p:blipFill>
          <a:blip r:embed="rId1"/>
          <a:stretch/>
        </p:blipFill>
        <p:spPr>
          <a:xfrm>
            <a:off x="3505320" y="1752480"/>
            <a:ext cx="3581280" cy="454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Прямоугольник 12" descr=""/>
          <p:cNvPicPr/>
          <p:nvPr/>
        </p:nvPicPr>
        <p:blipFill>
          <a:blip r:embed="rId2"/>
          <a:stretch/>
        </p:blipFill>
        <p:spPr>
          <a:xfrm>
            <a:off x="2664000" y="85680"/>
            <a:ext cx="6845040" cy="24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94920" y="-304920"/>
            <a:ext cx="8610840" cy="64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Гандбо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21:15:55Z</dcterms:created>
  <dc:creator>Катя</dc:creator>
  <dc:description/>
  <dc:language>en-US</dc:language>
  <cp:lastModifiedBy>Екатерина Владимирова</cp:lastModifiedBy>
  <dcterms:modified xsi:type="dcterms:W3CDTF">2025-01-24T08:39:3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